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CEC-4401-49E9-AA3F-97928D90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341-BDD9-40FB-BCAF-8DC67EB3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B16-46BC-4F92-B9FB-55F38165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189B-AC3F-49FE-BF16-E8F60313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E1D7-6B62-470D-9A54-558E16BA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EB14-CA07-48E0-86A7-94CC57A2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F885-B6C7-43F5-977C-C7601A51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BED8-6665-4517-9F24-3EFD1118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3F4F-D5B8-46A7-AADF-F68DE709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1029-1E09-41DC-A630-AE3511FE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923F-62F7-4DC1-83FF-1B4F81B7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4CA-C645-4498-B8B4-DF87E7CF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2D01-5937-4F87-B515-31D0F5C8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2393-E6B7-4FC9-B373-6D13055D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08C1-2D92-4A77-BC7E-A07B02C9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CEAF-8DAD-460D-89EA-B81B2B96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3151-F37E-4876-92F5-F60F49CB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9703-C662-4A74-862C-BDB055C7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E650-8F52-47C2-8F37-822C421E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BA5D-4D5C-4A11-B9BD-53DEDBBE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C73-F1EF-4B59-86B2-F15C64E4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AE4C-9D56-41C1-9ED8-1EFF0D3D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8572-D1FA-4CA1-A865-D31CE30F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80C-A0E0-4930-82F0-A57F7DFB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5520"/>
              <a:chOff x="1440" y="622440"/>
              <a:chExt cx="9141120" cy="24955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F8540E-B70F-4C58-894D-A54C8AD50F13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79" name="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760" y="0"/>
              <a:ext cx="8092800" cy="6851520"/>
              <a:chOff x="455760" y="0"/>
              <a:chExt cx="809280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840" y="0"/>
                <a:ext cx="114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2120" y="0"/>
                <a:ext cx="27648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9080" y="0"/>
                <a:ext cx="53532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416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560" y="0"/>
                <a:ext cx="88596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840" y="0"/>
                <a:ext cx="109548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9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700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120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3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920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7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76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5520"/>
              <a:chOff x="0" y="622440"/>
              <a:chExt cx="9140760" cy="24955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3C9D7-07F8-4940-82AC-CE50DF99C0BB}" type="slidenum">
              <a: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altavista.com/" TargetMode="External"/><Relationship Id="rId3" Type="http://schemas.openxmlformats.org/officeDocument/2006/relationships/hyperlink" Target="http://www.yahoo.com/" TargetMode="External"/><Relationship Id="rId4" Type="http://schemas.openxmlformats.org/officeDocument/2006/relationships/hyperlink" Target="http://www.dogpile.com/" TargetMode="External"/><Relationship Id="rId5" Type="http://schemas.openxmlformats.org/officeDocument/2006/relationships/hyperlink" Target="http://www.metacrawler.com/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ensus.gov/stab/www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8876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Preparing the Public Speech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Library research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L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Librari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L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atalog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L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eriodical Databa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L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eference Wor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ternet Resear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google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altavista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yahoo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ww.dogpile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www.metacrawler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* Be sure to use a “valid” sit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terviewi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Do it ahead of ti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Be prepared with ques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Be profession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Be friend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Be a good listen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ake good notes (or record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end a “thank you” let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upporting Ide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Decide what ideas you need to supp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based on your audience, topic and purpos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L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L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L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estimon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ypes of Examp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eferred to in a passage to illustrate a point; can introduce a topic; pile them one after the other to create a strong impression (brief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Narratives or anecdotes which pull the listener into the story (extended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Describing an imaginary situation (hypothetical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ips for Using Examp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larify unfamiliar and complex ide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einforce ide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ersonalize ide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Make examples viv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ractice delive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Use these to create an overall impact on listen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ften cited in passing to strengthen or clarify a poi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Life examples can be stacked to show seriousness of an iss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ips for using stat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Use them to quantify ide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Use them sparing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Use them for most important poi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dentify the sour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xplain the statist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ound off complicated sta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Use visual aids to clarify statistical tre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ere to find stat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tatistical Yearbook ( by the U.N.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census.gov/stab/ww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Guinness Book of World Record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estimon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xpert testimo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eer testimo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Quoting vs. Paraphra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Use quotations when…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. They are brief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.  They convey meaning better than you c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c.  They are eloquent, witty or compell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Central Idea: This is the one idea you want your audience to remember, long after your speech is ov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General Purpose: To inform or to persuad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pecific purpose: A one-sentence statement about your goal for what the audience should lear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ips for Using Testimon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Quote or paraphrase accurate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Use testimony from qualified sour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Use testimony from unbiased sour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en using quotes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dentify the people quoted or paraphras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tate the full name and qualifications the first time a person is quot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ources of testimon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BOO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JOURNA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PECIFIC EXPERTS IN A FIE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.g. faculty members, board members, researchers, professionals, 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Verdana"/>
              </a:rPr>
              <a:t>Speaking to Inform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peaking to Inf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hings to keep in mind when speaking to inform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Limit a speech to 2-5 main poi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Keep the main points separ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ry to use the same pattern of wording for each main poi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Balance the amount of time for each main poi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n informative speech also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.  Must be presented clear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2.  Must be presented accurate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3.  Must be engaging and keep the audience interes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Four major types of Informative Speech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speech that talks about visible, tangible and stable objects (e.g. specific people, trains, comic strips and the U.S. army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speech about processes (e.g. how to set a table, how to put a resume together, how hurricanes develop, how rugs are made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 speech about events (anything that happens or is regarded as a happening)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e.g. Holocaust, civil rights movement, mountain climbing, Battle of Little Big Hor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 speech about concepts (typically things that are abstract like ideas, principles, beliefs, theori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e.g. Confucianism, religious beliefs, theories of psycholo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Process of Organizing the Speech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Develop a purpose statement for the speech in order to focus on one aspect of the topic or subjec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o inform my audience about the major achievements of Fredrick Dougl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o inform my audience of the major steps in the classic Japanese tea ceremo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o inform my audience about why so many lives were lost when the Titanic san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Identify the Central Idea of the Speec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Fredrick Douglas became one of the greatest figures in American history even though he was born into slaver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here are five major steps in the classic Japanese tea ceremon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nability to remove passengers and crew from the Titanic caused 2/3rds of those on board to di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General Purpo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Keep the audience in mind (3 Ws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hom (To whom am I speaking?)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hat (What do I want them to know?)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How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(What is the most effective way to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esent my speech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Create a bond with the audi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actice in the classr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rganize the main poi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lphaU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pat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x:  Northwest Ohio is largely farmland.  Northeast is largely Industrial.  Southwest Ohio has a service econom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lphaU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op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x:  Cars can be powered by electricity; cars can be powered by a mix of electricity and gas; cars can be powered by hydroge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lphaU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hronolog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Things to keep in mind when speaking to infor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Don’t overestimate what the audience know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elate the subject directly to the audien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Don’t be too technical or use too much jarg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void abstractio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Verdana"/>
              </a:rPr>
              <a:t>Speaking to Persuade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hree things to keep in m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lphaU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Of all the kinds of public speaking, persuasion is the most complex and the most challeng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lphaU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ersuasive Speaking occurs in a hostile environment where listeners try to find every reason not to agree with yo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lphaU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No matter how expert you are on the topic, no mater how skillfully you prepare the speech, no matter how captivating your delivery is, some listeners will not agree with yo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Three types of persuasive speech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U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ersuasive speeches on questions of fac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-Present one view of the facts as persuasively as possible (e.g. persuading the audience that genetically engineered crops pose serious dangers to the environment and to human health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ersuasive speeches on questions of valu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Establish the standards for your value judgment and then apply those standards to the subject of your speech (e.g. if your argument is </a:t>
            </a:r>
            <a:r>
              <a:rPr b="0" i="1" lang="en-GB" sz="2800" spc="-1" strike="noStrike" u="sng">
                <a:solidFill>
                  <a:srgbClr val="ffffff"/>
                </a:solidFill>
                <a:uFillTx/>
                <a:latin typeface="Verdana"/>
              </a:rPr>
              <a:t>bicycle riding is the ideal form of land transportation,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you first need to identify the standards for an ideal form of land transportation and then show how biking measures up against those standa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ersuasive speeches on questions of policy.  Questions of policy inevitably involve questions of fact and may also involve questions of valu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Verdana"/>
              </a:rPr>
              <a:t>FIVE STEPS IN MONROE’S MOTIVATED SEQUENC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5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1.  ATTENTION: get the attention of your audience with a detailed story, shocking example, dramatic statistic, quotation, et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8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BOD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2.  NEED:  state the problem with the existing situation and illustrate it with strong supporting materials, such as statistics, examples, and testimo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3.   SATISFACTION:  present your plan/solution to the problem and show how it will wor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4.  VISUALIZATION: show how the audience will profit from your policy liste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5.  ACTION: Say exactly what you want the audience to do and how to do it.  Then conclude with a final stirring appeal that reinforces their commitment to ac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nalyzing the Audi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Keep the audience in mind (3 Ws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hom (To whom am I speaking?)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hat (What do I want them to know?)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How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(What is the most effective way to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esent my speech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Create a bond with the audi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actice in the classr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nalyzing the Audi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Keep the audience in mind (3 Ws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hom (To whom am I speaking?)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hat (What do I want them to know?)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How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(What is the most effective way to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esent my speech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Create a bond with the audi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actice in the classr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Demographic Audience Analysi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exual Ori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acial, Ethnic, and Cultural Backgrou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elig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Group membersh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Dispos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oward the speaker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 confid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ct compet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ct interes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oward the occasion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olitical Spee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erm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fter Dinner Spee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Learning &amp; Adapting about the audie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nterview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Questionnai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ee things from the other person’s point of 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Make yourself clear, appropriate, and convincing as possi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How to gather your material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Yoursel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Go directly to the source  (primary resource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-inter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Go to another source written by someone else (secondary source)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-Internet, books, magazines, newspapers 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bm</dc:creator>
  <dc:description/>
  <dc:language>en-US</dc:language>
  <cp:lastModifiedBy>ibm</cp:lastModifiedBy>
  <cp:revision>0</cp:revision>
  <dc:subject/>
  <dc:title>Preparing the Public Speech</dc:title>
</cp:coreProperties>
</file>